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ECD6-A130-4EF7-B056-306EFB0D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A47-9FDE-4CA7-BE31-6D849043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02E1-F97B-4129-BDB7-72FE4890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1424-2F25-45A6-8F1B-5079DBED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8C45-FDAF-462A-A8B2-C002A60C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1BAA-6436-4F3B-93DB-34230616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016D-1260-4571-873D-684FF81C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965A-E3F6-49B4-9067-5FE08044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5BF7-C41C-4BA9-B3E2-8D278908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917A-85FD-4BAE-AC83-91905CF3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6526-32DF-4F79-A919-25B0558A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60C7-D83B-485F-9351-AA979808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3A5C-E6CF-4C98-B934-1B8DC6A49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 and Paramet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plit large programs into isolated sections. Focus on one part of the problem – which can be “called” on or “invoked” by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Performed calls draw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House calls draw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House calls draw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Triangle calls draw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House calls  areaRectanglr and  areaTriangle adds the results, returns the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lo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Triangle has an int and a double version based upon the call (int or dou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decides which to use by type passed in th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per.drawRect (10, 20, 60, 60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Rect is called and passed a starting x,y value and an ending x,y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your own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62-63 “LogoMethod”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void drawLogo (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Area, int xPos, int yPos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header for drawLogo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parameter list inside pare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method may be called by another method in the sam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d = drawLoge returns nothing, other methods may return any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of method will be enclosed by {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ing a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Logo ( paper, 10 , 20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must include name of method and arguments (in correct order, number, 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are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 vs. Actual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parameters in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Logo (Graphics drawingArea, int xPos, int yP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Area, xPos and yPos are 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parameters are given in cal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Logo ( paper, 10, 2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, 10 and 20 are Ac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anglemethod Page 68-69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 70 drawTriangle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2590920"/>
            <a:ext cx="30481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2057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80,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334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80, 100 + 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5334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80 + 60, 100 + 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26668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50292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2590920"/>
            <a:ext cx="297180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23623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33526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=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 local vs.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71-72 Name Cla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, y, z may exist locally in any method, even if they are declared as different types Java treats them a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by Java run tim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call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Performed called when buttons clicked (or another even occu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turn sends a result back to the rest of the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73 program “AreaMethod” returns a value “area” to the call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= areaRectangle ( 30, 40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House” page 76-7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drawtriangle and drawRectangle to draw a ho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3733920"/>
            <a:ext cx="1523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297180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2971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14:23:19Z</dcterms:created>
  <dc:creator>ITS</dc:creator>
  <dc:description/>
  <dc:language>en-US</dc:language>
  <cp:lastModifiedBy>ITS</cp:lastModifiedBy>
  <dcterms:modified xsi:type="dcterms:W3CDTF">2005-04-28T14:54:08Z</dcterms:modified>
  <cp:revision>2</cp:revision>
  <dc:subject/>
  <dc:title>Methods and Parameters Chapter 5</dc:title>
</cp:coreProperties>
</file>